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1ED-61E0-4ECA-8B81-0E331798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80E-667F-4DD3-8837-829587F0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768-87AA-4134-A105-CC836EE3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F7A-710A-448C-AA0D-8FC30F8E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AE8-0354-4ABE-A359-D1E10204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3B8-ED57-4E0D-9C32-D75B2702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A09-03B3-4916-89DB-E9176AEF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A2A-B94B-45C8-BD29-E424FABB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EDD-3388-430F-81C7-B19C7872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395-07DD-4B7D-8DD5-937D38CD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454-2678-4BBC-8CC7-F2227525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CC9-0891-45A9-94C0-D88AD80F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573-90D6-4B4F-9F86-969D4E6B28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5F27-6166-49DD-9EF5-F6459F141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624720" cy="64764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6624720" cy="47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CIÓN DE DIRECTORE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4797360"/>
            <a:ext cx="3241800" cy="368280"/>
          </a:xfrm>
          <a:prstGeom prst="rect">
            <a:avLst/>
          </a:prstGeom>
          <a:solidFill>
            <a:srgbClr val="fc20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ICO PÉREZ MO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3716280"/>
            <a:ext cx="3240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aliación ESO: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CB5-7AD0-412D-9577-0A2C906F8AE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DC5A2-65FF-44E8-8B5B-C6B6CD21B8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85264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4.- Alumnado que rematou 4º da ESO.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en sen superar as seguintes materias: lingua castelá e literatura de 1º, 2º, 3º e 4º da ESO. ¿Pode titu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989000"/>
            <a:ext cx="3240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aliación ESO: Tit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29264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Con catro materias no superadas non pode obter o tí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871-7612-4518-B30E-7CC1D401FE1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31DA4-CC8F-43D3-8096-A984597CCB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85264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5.- Alumno/a que rematou o segundo curso dun PDC. Ten sen superar unicamente o ámbito lingüístico  social.  ¿Pode titu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989000"/>
            <a:ext cx="3240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vali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O: Tit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29264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Cun ámbito non superado non pode obter o tít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8C5-9193-4303-973D-8DAE9F21D9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5B951-EE69-4159-9AD3-2D31AD0C51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99736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romociona un alumno/a ten sen superar as seguintes materias: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proxecto interdisciplinar de 1º, lingua castelá de 2º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matemáticas de 3º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844640"/>
            <a:ext cx="3240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aliación ESO: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221000"/>
            <a:ext cx="7848360" cy="16084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Computan para a promoción a lingua castelá e as matemá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Non computa o proxecto interdisciplin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Con dúas materias non superadas promociona automatic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C21-AD97-4056-89D8-D2CCC03DD7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848AB-7C6B-4DDD-A964-08ACC129D0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565360"/>
            <a:ext cx="792144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 Un alumno/a  que cursou terceiro da ESO ten sen superar as seguintes materias:  Matemáticas de 1º, 2º e 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¿ Promociona ou n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844640"/>
            <a:ext cx="3240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aliación ESO: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149720"/>
            <a:ext cx="7848360" cy="17398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Con tres materias non superadas debe, con carácter xeral, repetir o terceiro cu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Excepcionalmente o equipo docente pode decidir despois da avaliación extraordinaria de setembro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Tamén se podería incorporar a un PDC de dous 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2A0-5ECD-40BF-9F10-BAF2ABC2CD1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B8112-DE95-405C-9322-63027DB8C3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56536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3.- Un alumno/a  que cursou 3º da ESO ten sen superar as seguintes materias: ciencias naturais de 1º e 2º, xeografía e historia de 2º e 3º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844640"/>
            <a:ext cx="3240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aliación ESO: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4005360"/>
            <a:ext cx="7921440" cy="9169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Con catro materias non superadas o alumno/a debe repetir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Tamén se podería incorporar a un PDC de dous 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AAD-F75A-44DE-9046-8E84845B581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D982F-A80E-414D-B6A4-E67709E1C2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78136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4.- Ten sen superar as seguintes materias: ciencias naturais  de 2º,  bioloxía e xeoloxía de 3º e física e química de 3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989000"/>
            <a:ext cx="3240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aliación ESO: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4005360"/>
            <a:ext cx="7921440" cy="146556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Bioloxía e Xeoloxía e Física e Química conta como unha soa materia a efectos de promo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Ten, xa que logo, dúas suspens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Promociona automatic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E52-8740-4045-AE3D-75A40B56028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6F3B2-EF29-4CA7-9F95-CC418924A9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56536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5.- Un alumno/a de 3º curso ten sen superar as seguintes materias: lingua castelá de 2º e 3º, matemáticas de 2º e 3º e segunda linga estranxeira de 2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989000"/>
            <a:ext cx="3240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aliación ESO: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645000"/>
            <a:ext cx="7921440" cy="25628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En condicións normais este alumno/a non debería estar en 3º curso porque ten tres materias de 2º curso non superadas. So cabería esta situación se o equipo docente do pasado ano decidiu a súa promoción con tres materias. De ser así, é dicir, se promocionou de xeito extraordinario de 2º a 3º con tres  materias non superadas, o alumno/a tería cinco materias suspen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Con cinco materias non superadas o alumno/a debe repetir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Tamén se podería incorporar a un PDC de dous 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8CE-5227-40A2-8BD8-86BE94A47C9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154EC-D1C4-407D-9451-A3E8814EA1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256536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1.- Alumnado que rematou 4º da ESO. Ten sen superar as seguintes materias:  matemáticas de 3º  e  4º. ¿Pode titu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989000"/>
            <a:ext cx="3240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aliación ESO: Tit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3645000"/>
            <a:ext cx="7921440" cy="146556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Con dúas materias no superadas, con carácter xeral,  non tit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O equipo docente poderá decidir a titulación se considera “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que a natureza e o peso destas no conxunto da etapa non lle impida alcanzar as competencias básicas e os obxectivos da etap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C49-8A7D-4344-AC5E-12024819259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5E157-07BC-46D6-A2F0-2D65C295BB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56536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 Alumnado que rematou 4º da ESO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en sen superar as seguintes materias: Bioloxía e Xeoloxía de 3º, Física e Química de 3º,  Lingua Inglesa de 4º. ¿Pode titu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989000"/>
            <a:ext cx="3240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aliación ESO: Tit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3645000"/>
            <a:ext cx="7921440" cy="17398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O alumno/a tería dúas materias non superadas. (Bioloxía e Xeoloxía e Física e Química de 3º conta como unha soa mater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Con dúas materias no superadas, con carácter xeral, non tit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O equipo docente poderá decidir a titulación se consider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D3B-17BA-49E7-9D76-4620AAB10B0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B5167-3368-4DA9-82C4-056CA1B8D4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2565360"/>
            <a:ext cx="792144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3.- Alumnado que rematou 4º da ESO.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en sen superar as seguintes materias: Bioloxía e Xeoloxía de 3º, Física e Química de 3º,  Bioloxía e Xeoloxía de 4º e Física e Química de 4º. ¿Pode titu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1989000"/>
            <a:ext cx="3240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aliación ESO: Tit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4221000"/>
            <a:ext cx="7921440" cy="17398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Tería tres materias non supe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Con tres materias no superadas, con carácter xeral, non tit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O equipo docente, excepcionalmente,  poderá decidir a titulación se considera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F9A-A822-4A43-B7C3-4190432D53F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B5E3B-8793-4CB7-ACCC-680D414B2C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9:34:47Z</dcterms:created>
  <dc:creator>-</dc:creator>
  <dc:description/>
  <dc:language>en-US</dc:language>
  <cp:lastModifiedBy>Educación</cp:lastModifiedBy>
  <dcterms:modified xsi:type="dcterms:W3CDTF">2008-11-22T08:52:17Z</dcterms:modified>
  <cp:revision>4</cp:revision>
  <dc:subject/>
  <dc:title>PREGUNTAS E RESPOSTAS</dc:title>
</cp:coreProperties>
</file>